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E15E-B3D4-4A07-9025-F1554091F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DA6B-34BA-47C3-AB39-06FDA528CD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68FA-42ED-4DEE-AC93-14578B6E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1918-D1BA-4373-8015-0341A5CE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59BB-F4B7-4D80-9300-4EDD2854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974-93C4-42DB-85B2-D9F57E91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08F-79EB-40F5-B907-2D809613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F1A1-46F7-4227-A128-9AAAD3E1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1EA8-782B-4C0F-9090-4FD6557B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6FB7-52E9-4102-82D3-7DFD5FE5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3EC-B822-48EC-8A08-1393566B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210E-EF1F-4345-BB48-B996C85A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D62-1E7B-4DFE-9E2D-C03C4AF9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198D-ED67-4335-9F21-1EF0C43A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D8F1-140B-4566-811C-7937637F2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brainpop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Physics%20of%20Road%20Runner/RoadRunner.ppt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n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1958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5/17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514600"/>
            <a:ext cx="75438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04920" y="3219480"/>
            <a:ext cx="8458200" cy="17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wton's Laws of Motion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380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53182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line Answers You Believe are Correct NOW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6320" y="76320"/>
            <a:ext cx="2895120" cy="635040"/>
            <a:chOff x="76320" y="76320"/>
            <a:chExt cx="2895120" cy="635040"/>
          </a:xfrm>
        </p:grpSpPr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76320" y="76320"/>
              <a:ext cx="6681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 txBox="1"/>
            <p:nvPr/>
          </p:nvSpPr>
          <p:spPr>
            <a:xfrm>
              <a:off x="761040" y="153360"/>
              <a:ext cx="2210400" cy="50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54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BrainPop – Newton’s Laws of Motion Check Pre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toon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and Motion Test Study Guide (Answers available during homeroom/lunch/dismissal to che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Questions during homeroom on Wednesday since sub will be here tomorrow…Ms. Criss could help on Tuesday if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cartoons manipulate Newton’s Laws of Mo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DAA6DA43-A1CE-46DF-A697-A4DA61A040DC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July 30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 and relate formal ideas (Newton’s Laws) about the interaction of force and motion to real world experi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Question 20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Newton’s 3 Laws of Mo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tle 1" descr=""/>
          <p:cNvPicPr/>
          <p:nvPr/>
        </p:nvPicPr>
        <p:blipFill>
          <a:blip r:embed="rId1"/>
          <a:stretch/>
        </p:blipFill>
        <p:spPr>
          <a:xfrm>
            <a:off x="-6480" y="23760"/>
            <a:ext cx="9156960" cy="2852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33720" y="3124080"/>
            <a:ext cx="4572000" cy="3560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440" y="149292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Force and Motion Test Review Guid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You will get in HR at end of the day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Human Cannonball cartoon, the cannon goes backwards when set-off rather than the coyote flying forward…which law does this brea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TPChart"/>
          <p:cNvGraphicFramePr/>
          <p:nvPr/>
        </p:nvGraphicFramePr>
        <p:xfrm>
          <a:off x="4508640" y="2209680"/>
          <a:ext cx="4572000" cy="458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209680"/>
                    <a:ext cx="4572000" cy="458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3"/>
          <a:srcRect l="11721" t="27130" r="12470" b="4125"/>
          <a:stretch/>
        </p:blipFill>
        <p:spPr>
          <a:xfrm>
            <a:off x="6019920" y="152280"/>
            <a:ext cx="2898720" cy="1971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aw (Inert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Law (F=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Law (Action/Re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AnswerNow"/>
          <p:cNvGrpSpPr/>
          <p:nvPr/>
        </p:nvGrpSpPr>
        <p:grpSpPr>
          <a:xfrm>
            <a:off x="3460680" y="6286680"/>
            <a:ext cx="2222640" cy="444240"/>
            <a:chOff x="3460680" y="6286680"/>
            <a:chExt cx="2222640" cy="444240"/>
          </a:xfrm>
        </p:grpSpPr>
        <p:sp>
          <p:nvSpPr>
            <p:cNvPr id="74" name="ANShape"/>
            <p:cNvSpPr/>
            <p:nvPr/>
          </p:nvSpPr>
          <p:spPr>
            <a:xfrm>
              <a:off x="34606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NText"/>
            <p:cNvSpPr/>
            <p:nvPr/>
          </p:nvSpPr>
          <p:spPr>
            <a:xfrm>
              <a:off x="34606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9:03:31Z</dcterms:created>
  <dc:creator>krmihal</dc:creator>
  <dc:description/>
  <dc:language>en-US</dc:language>
  <cp:lastModifiedBy>krmihal</cp:lastModifiedBy>
  <dcterms:modified xsi:type="dcterms:W3CDTF">2010-05-19T19:03:42Z</dcterms:modified>
  <cp:revision>1</cp:revision>
  <dc:subject/>
  <dc:title>Slide 1</dc:title>
</cp:coreProperties>
</file>